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AEB-5ADB-4FA3-81ED-FDAAD41D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4DB-C26E-4DAA-8991-C0DAD934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DFB-7C61-466B-904B-D3FA54FF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F62-87E7-4655-91F6-193D7397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C357-3E08-4898-A801-F4D195E0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595E-4C10-4914-98C3-9BFDBC29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41D1-81C4-4603-B023-C3EC19A4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3A3B-B886-4F49-AE6F-FA81DE82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3C24-FB2F-49E0-872A-77875BC9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A709-93B9-4452-A54D-33A8C74D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869C-F3DF-4C7A-B20A-775B339C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52F-CDE5-41C2-AD59-00B91ACA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AA52-948C-4EBA-ADC4-B4EA5B8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C5A7-27D8-4F23-8515-F31AADBE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D3F2-0A45-4546-A20C-E95C0C8C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7F3D-B10A-4FCE-A2F2-D0C1360B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222D-C37D-4A91-89A1-FD219091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B8A-A12D-47EF-BA0B-165A13F3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1EE-F486-4D7E-9BF5-DBBEF6C3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E24-4A8A-4753-A884-3AC9E869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7C8-5FF3-4B65-B14D-B72CADDC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337-8776-41CD-BFE7-D9B5E16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8F1-B1D6-4195-B1F2-C269D682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ED1-0DBF-4F3C-A85F-0506D4FA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7B13-10FB-4267-97D6-AE80A56CD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7832-D5BE-4882-8F99-BE275D1C6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drid.org/" TargetMode="External"/><Relationship Id="rId2" Type="http://schemas.openxmlformats.org/officeDocument/2006/relationships/hyperlink" Target="http://www.munimadrid.es/" TargetMode="External"/><Relationship Id="rId3" Type="http://schemas.openxmlformats.org/officeDocument/2006/relationships/hyperlink" Target="http://www.map.es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MPLEO PUBL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L FUNCIONAR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SONAL LAB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438280"/>
            <a:ext cx="7619760" cy="3820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OFERTA PÚBLICA DE EMPLEO: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BOLEÍN DEL ESTADO O DE LA ADMINISTARCIÓN AUTONÓMICA O LOCAL CORRESPONDEN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NVOCATORIA. INDICA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SISTEMA DE SELECCIÓN: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OPOSI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ONCURS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ONCUROS OPOSIC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BOLSA DE TRABAJ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REQUISITOS,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SOLICITUD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ALENDAR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PRUEB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XÁMENES / PRUE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794120"/>
            <a:ext cx="4267440" cy="11955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A: TITULADO SUPERIOR/ LICENCIAD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B: DIPLOMAD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C: BACHILLERATO O CFG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D: ESO O CFG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E: CERTIFICADO DE ESTUDIOS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5334120"/>
            <a:ext cx="8380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1600"/>
            <a:ext cx="71629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CIÓN SOBRE EMPLEO PÚBLIC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4880" y="2257560"/>
            <a:ext cx="7551720" cy="359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ENTROS OFICIALES: TABLONES DE AYUNTAMIENTOS, JUNTAS MUNICIPALES DE DISTRITO, MINISTERIO DE ADMINISTRATIC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OLETINES OFICIAL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ESTA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AUT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IBLIOTE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ET: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madrid.org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BOCM),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munimadrid.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OPOSICIONES Y OFERTAS DE EMPLEO),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www.map.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PROCESOS SELECTIV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ENSA: Mercado de Trabajo, AB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CADEM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MPLEO PRIVA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FERTA DE EMP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SPUESTA A LA OFERTA EMP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ta + Curricu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CESO DE SELE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ueb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fes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sicotécn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inam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trevista de Sel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RA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7:56:44Z</dcterms:created>
  <dc:creator>AUTOMOCIÓN</dc:creator>
  <dc:description/>
  <dc:language>en-US</dc:language>
  <cp:lastModifiedBy>AUTOMOCIÓN</cp:lastModifiedBy>
  <dcterms:modified xsi:type="dcterms:W3CDTF">2008-01-23T09:27:41Z</dcterms:modified>
  <cp:revision>2</cp:revision>
  <dc:subject/>
  <dc:title>EMPLEO PÚBLICO</dc:title>
</cp:coreProperties>
</file>